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51BB-02E0-43B2-8CC0-C8DE0E67E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69EB-EC87-45EA-9B9F-A024EE17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E4D7-F1C7-4C29-9085-888AD94C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35D7-1CB8-4EED-B712-2C586B73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4918-5E45-45F6-8403-325E886E9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B9A0-49C4-4A3D-937C-61FB431B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4665-9D7A-4D34-AABD-309E0961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D543-D388-41EB-9E39-5413FADC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6D9A-2123-49F3-92E6-6A7B478B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F92B-2209-44D3-B5DD-25995C45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D53F-76D0-4CA1-87A3-3DD6CB9B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B4E8-7461-4020-B1A0-27DAB640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1873-95F7-49C2-AA67-4FDC5556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D1B9-5A7A-444E-A2D7-F1C67080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E8E1-8F09-4146-9AEB-42DE62A7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620C-B7BF-4A95-B5CA-493451585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3564-CB6D-4EAF-B275-CF27C7623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99DD-2240-4E72-886A-7AF3E635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C893-3684-415B-82CA-825630D7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6C15-3E0F-4D4E-B39B-27130A6B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38CA-10FC-4AB9-9DA8-D9323D9D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483D-B5FF-4ED8-8A48-4D6A442B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293C-C264-46D5-A740-9FD75CAD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B076-E6E0-4F01-B7FE-7A200E93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B70B-0C6A-44B0-B56F-E7763BA39AEF}" type="slidenum">
              <a:rPr b="0" lang="es-E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950B-B552-488A-B142-A1889ED7E33B}" type="slidenum">
              <a:rPr b="0" lang="es-E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Hecho por: Miguel Bustamante y Gonzalo Prado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La Cultura Chancay extendió su área de influencia entre los valles de Chancay, Chillón, Rimac y Lurín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6" name="Picture 5" descr="pch-ubi"/>
          <p:cNvPicPr/>
          <p:nvPr/>
        </p:nvPicPr>
        <p:blipFill>
          <a:blip r:embed="rId2"/>
          <a:stretch/>
        </p:blipFill>
        <p:spPr>
          <a:xfrm>
            <a:off x="1042920" y="3141720"/>
            <a:ext cx="655344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Ellos destacaban en la pesc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Basaron su economía en la agricultura y el comercio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9" name="Picture 5" descr="agricultura"/>
          <p:cNvPicPr/>
          <p:nvPr/>
        </p:nvPicPr>
        <p:blipFill>
          <a:blip r:embed="rId2"/>
          <a:stretch/>
        </p:blipFill>
        <p:spPr>
          <a:xfrm>
            <a:off x="2916360" y="2781360"/>
            <a:ext cx="568800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hacían centros urbanos piramidales y también se basaron en la ingeniería hidráulic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2" name="Picture 5" descr="poster_hidraulica"/>
          <p:cNvPicPr/>
          <p:nvPr/>
        </p:nvPicPr>
        <p:blipFill>
          <a:blip r:embed="rId2"/>
          <a:stretch/>
        </p:blipFill>
        <p:spPr>
          <a:xfrm>
            <a:off x="2771640" y="2781360"/>
            <a:ext cx="6048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Tubo un alto rango en desarrollo textil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Normalmente hacian sus textiles con dibujos de peces aves o figuras geometrica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Enterraban a los hombres importantes en tumbas rectangulares o cuadrangulares, el fardo funerario estaba rodeado de ofrendas de textiles y objetos de oro y plat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Enterraban a los pobladores comunes casi en la superficie, el fardo funerario era cubierto con esteras, venía acompañado de simples telas y pocas ofrenda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El estilo clásico de la cerámica en la cultura Chancay son sus cerámicas ásperas y tenia los colores marrón y negro sobre un fondo blanco o crem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3666960" y="2109960"/>
            <a:ext cx="1810080" cy="26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3666960" y="2109960"/>
            <a:ext cx="1810080" cy="26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9"/>
          <p:cNvSpPr/>
          <p:nvPr/>
        </p:nvSpPr>
        <p:spPr>
          <a:xfrm>
            <a:off x="3666960" y="2109960"/>
            <a:ext cx="1810080" cy="26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0" descr="china2"/>
          <p:cNvPicPr/>
          <p:nvPr/>
        </p:nvPicPr>
        <p:blipFill>
          <a:blip r:embed="rId2"/>
          <a:stretch/>
        </p:blipFill>
        <p:spPr>
          <a:xfrm>
            <a:off x="539640" y="3751200"/>
            <a:ext cx="806472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23:59:04Z</dcterms:created>
  <dc:creator>user</dc:creator>
  <dc:description/>
  <dc:language>en-US</dc:language>
  <cp:lastModifiedBy>Computo</cp:lastModifiedBy>
  <dcterms:modified xsi:type="dcterms:W3CDTF">2009-11-12T18:50:21Z</dcterms:modified>
  <cp:revision>4</cp:revision>
  <dc:subject/>
  <dc:title>Cultura Chancay</dc:title>
</cp:coreProperties>
</file>